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98D-F727-46BF-AAC5-DAD1F121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78A-3CB6-428B-9D4B-A76A4756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25E-D99F-4D34-B22A-3253183A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2B9-0A69-4C7A-ACCC-DCCEDDDF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675-153E-4832-A834-AA7CB7B3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F73-EBFE-4458-96B9-37BC7455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9CF-4539-45A5-A388-2470D073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6B4-BD13-4D0C-8146-860BA734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92D-B5EE-4118-9CBB-D4D7D42C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B33-7D5E-4199-B5D7-175BA333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7E0-FFB5-4B4D-A281-186EF19D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27F-3CA7-4A8B-94BA-7ED9C8E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D09E-7F4A-4762-A002-B83A1B912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mw.org.au/items/002/mabo_01.jpg&amp;imgrefurl=http://www.amw.org.au/items/002/002_nom.htm&amp;h=618&amp;w=450&amp;sz=45&amp;hl=en&amp;start=3&amp;um=1&amp;tbnid=Hn_9y4z3R4ApwM:&amp;tbnh=136&amp;tbnw=99&amp;prev=/images%3Fq%3Dmabo%2Bcase%26um%3D1%26hl%3Den%26safe%3Dstrict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By Olena and Dani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197000"/>
            <a:ext cx="4608360" cy="1511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BO  C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3429000"/>
            <a:ext cx="2044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bo was born on Murray Island in between Papua New Gui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fighting for Murray island which are located in the torres str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700360" y="549360"/>
            <a:ext cx="2867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URRAY ISL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bo was named Eddie Koiki Sambo but he changed his name to Mabo because his mother’s brother adopte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95640" y="260280"/>
            <a:ext cx="388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bO's rEaL N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bo was a landmark court case against Queensland vs. Mab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involved aboriginal land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79640" y="40464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qUeENsLAnD Vs Ma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case happened in Queensland in Jun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99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11280" y="476280"/>
            <a:ext cx="37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UrT Ca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88 British colonisation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aid that the land was free to take and didn’t belong to any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rra nulli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95640" y="333360"/>
            <a:ext cx="36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ERRA NULLI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said that there were people living in Australia before the British ca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established native tit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79640" y="404640"/>
            <a:ext cx="42498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IN THE COURT RO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back empty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back parks that the government 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59280" y="333360"/>
            <a:ext cx="216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ESUL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5:04Z</dcterms:created>
  <dc:creator>Reservoir District Secondary College</dc:creator>
  <dc:description/>
  <dc:language>en-US</dc:language>
  <cp:lastModifiedBy>Reservoir District Secondary College</cp:lastModifiedBy>
  <dcterms:modified xsi:type="dcterms:W3CDTF">2008-06-05T02:41:52Z</dcterms:modified>
  <cp:revision>8</cp:revision>
  <dc:subject/>
  <dc:title>Slide 1</dc:title>
</cp:coreProperties>
</file>